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ED26-F6C9-4956-87B4-EB3654C3E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6F0D-1737-48E7-B9F5-76FE4FEE205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8D14-7C7E-4182-B84B-1751B4890AB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62FE-542B-4F53-958A-FB9BF922D3F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E31C-26E3-407A-996C-416DCC6DBB3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er end of the ladel point to Reg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e curves to Arcturus then S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11B7-A860-42F3-A120-BF058ED69C1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1F33-D40D-4ABF-84B6-6F658FFD193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169B-C653-44D6-AB60-C2CBB4A7F08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A9DD-4E99-4E8E-9244-231423C4047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78EC-DA39-48A0-9931-521AB9B8327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721E-0915-4EED-B930-38D34675C61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4BB8-DAA3-4922-A9C4-93BDD8BF640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5656-E0D0-4DA9-A23A-BC37F4AD3D9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8F25-EECD-428F-B573-CF0D5E37498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6CB9-1D8A-4F60-8F15-44C934B4A3D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60C2-3C84-47F0-BB14-24467B3C05E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394C-5FEF-482D-8F0D-9BECAE48719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353F-BCF7-40DB-8FED-C05EE7E1469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15B-75AA-44D1-9294-219CFFE6E63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A098-84A3-443E-AFD1-5BF40242217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B9AE-6188-40D1-8A26-CA05217CF91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5F96-A749-460E-AA5B-821B2659FA1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954A-7C4A-44C2-A2BA-BFB1D3A6141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4C7D-492E-4361-A05C-B5C1C274618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A2BC-F2AB-432A-9AF6-59BA9566887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BB7B-BDAF-41DB-96C5-3BC1C5D1DD8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202-28E7-49EE-97B5-1503A983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654-1002-42B9-A4D2-9F3763BE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682-5425-409D-9416-12104CF7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EAE-928A-4FBD-A2DE-C778B881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4F5E-83BF-42D0-B6F8-6F57050D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7CB6-0133-48C3-A9D4-A11A3AB5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E095-44EF-4A8D-9342-A768D836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7C25-6247-43DC-9616-8DBD8679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11E0-96B8-4780-AC26-C50052D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5F75-B585-49C5-BE12-A60EC5DC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B465-3A0A-4BB3-8D01-9901F47E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F6E-CD78-4F0A-9347-0213A715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8D91-DDEC-44F7-96D9-FB0238CC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63AE-09D8-406B-AA73-34116F2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1BCC-0F6A-4189-A241-35A59788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E946-05A1-435F-8C21-0A6E1655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FBBD-8B89-430F-88A9-B11BAF5F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C5C-B4A3-425D-9C7E-336A5C50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59A-2DF4-4B2F-9AEB-47246DF9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802-90DB-4E49-AF42-C6C76789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B99-7B61-406D-B413-D518EA5F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2A7-89FE-4E83-BFE1-549CD795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BF7-34CB-45DE-A684-1902DE46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268-C438-41F9-AD07-20874448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E9C5-8635-4C35-BCDE-E24B31377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326B-55BD-4B09-ABF1-53AE78B245B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90627.html" TargetMode="External"/><Relationship Id="rId2" Type="http://schemas.openxmlformats.org/officeDocument/2006/relationships/hyperlink" Target="http://antwrp.gsfc.nasa.gov/apod/ap090912.html" TargetMode="External"/><Relationship Id="rId3" Type="http://schemas.openxmlformats.org/officeDocument/2006/relationships/hyperlink" Target="http://antwrp.gsfc.nasa.gov/apod/ap021106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tropix.com/HTML/C_SPRING/URSA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arth-and-moon-from-mars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ght Sky Watching (Basics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care about finding Polar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irection of Polaris is due No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ngle between Polaris and the horizon is </a:t>
            </a:r>
            <a:r>
              <a:rPr b="1" lang="en-US" sz="4400" spc="-1" strike="noStrike">
                <a:solidFill>
                  <a:srgbClr val="cc0099"/>
                </a:solidFill>
                <a:latin typeface="Verdana"/>
              </a:rPr>
              <a:t>YOUR LATITU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can I measure ang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handdiagrams"/>
          <p:cNvPicPr/>
          <p:nvPr/>
        </p:nvPicPr>
        <p:blipFill>
          <a:blip r:embed="rId1"/>
          <a:stretch/>
        </p:blipFill>
        <p:spPr>
          <a:xfrm>
            <a:off x="-1066680" y="990720"/>
            <a:ext cx="1104876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g Dipper as Star Gu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dipper_guide"/>
          <p:cNvPicPr/>
          <p:nvPr/>
        </p:nvPicPr>
        <p:blipFill>
          <a:blip r:embed="rId1"/>
          <a:stretch/>
        </p:blipFill>
        <p:spPr>
          <a:xfrm>
            <a:off x="990720" y="415800"/>
            <a:ext cx="7238880" cy="64422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viewfromathen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tronomy Picture of the Day (APO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twrp.gsfc.nasa.gov/apod/ap090627.htm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Triang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antwrp.gsfc.nasa.gov/apod/ap090912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Hexag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antwrp.gsfc.nasa.gov/apod/ap021106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er Triang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summertriangle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25909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ter Hexag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winterhexagon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 of stars all in roughly the same direction from Earth, BUT …. Each has its own different distance from the Ea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NOT grouped together is sp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om Greek astronomers have inherited the names of the constellations: mythological figures or anim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erent cultures on Earth each have different names for the constell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Stars at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Distance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orion_2d_3d"/>
          <p:cNvPicPr/>
          <p:nvPr/>
        </p:nvPicPr>
        <p:blipFill>
          <a:blip r:embed="rId1"/>
          <a:stretch/>
        </p:blipFill>
        <p:spPr>
          <a:xfrm>
            <a:off x="3505320" y="0"/>
            <a:ext cx="5960880" cy="708660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isible Constellations change over a yea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heard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on is a winter constellatio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can see Cygnus most of the summ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comments arise because you cannot see the Constellations near where  the Sun is in the sk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 so bright it washes out rest of st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Sun moves along the Ecliptic over a year the constellations “away” from the Sun change over a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rs Pivot around a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04a-021"/>
          <p:cNvPicPr/>
          <p:nvPr/>
        </p:nvPicPr>
        <p:blipFill>
          <a:blip r:embed="rId1"/>
          <a:stretch/>
        </p:blipFill>
        <p:spPr>
          <a:xfrm>
            <a:off x="2362320" y="533520"/>
            <a:ext cx="435600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on opposite side of Sun (Oppositio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season_const"/>
          <p:cNvPicPr/>
          <p:nvPr/>
        </p:nvPicPr>
        <p:blipFill>
          <a:blip r:embed="rId1"/>
          <a:stretch/>
        </p:blipFill>
        <p:spPr>
          <a:xfrm>
            <a:off x="5073480" y="0"/>
            <a:ext cx="4070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Zodia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and of constellations closest to the Ecliptic (Sun’s yearly path across the sky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rrespond to Horoscope “Sign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trology used to make predictions (not science!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ful for backyard astronomy: Planets and the Moon can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alway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be found in the Zodia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idth of the Zodiac belt ~ 18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1029" descr="zodiac_b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4" descr="Westlake3Planets061905"/>
          <p:cNvPicPr/>
          <p:nvPr/>
        </p:nvPicPr>
        <p:blipFill>
          <a:blip r:embed="rId1"/>
          <a:stretch/>
        </p:blipFill>
        <p:spPr>
          <a:xfrm>
            <a:off x="-581040" y="0"/>
            <a:ext cx="10258560" cy="686268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6400800" y="5562720"/>
            <a:ext cx="228600" cy="228600"/>
          </a:xfrm>
          <a:prstGeom prst="ellipse">
            <a:avLst/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ecliptic_clem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9180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096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ming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rightest star in constellation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ek name: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rabic name: Aldebar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l Debarre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Follow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(of the Pleia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4" descr="taurus"/>
          <p:cNvPicPr/>
          <p:nvPr/>
        </p:nvPicPr>
        <p:blipFill>
          <a:blip r:embed="rId1"/>
          <a:stretch/>
        </p:blipFill>
        <p:spPr>
          <a:xfrm>
            <a:off x="0" y="0"/>
            <a:ext cx="495144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leiades-20960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orth Celestial Pole (NC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cial spot on the sky that the Earth’s rotation axis points t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speci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During the night the stars appear to rotate around this sp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so special (and useful) in other ways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ching Stars from the North Po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SouthPole"/>
          <p:cNvPicPr/>
          <p:nvPr/>
        </p:nvPicPr>
        <p:blipFill>
          <a:blip r:embed="rId1"/>
          <a:stretch/>
        </p:blipFill>
        <p:spPr>
          <a:xfrm>
            <a:off x="838080" y="11286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are Bi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olaris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: Points to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astropix.com/HTML/C_SPRING/URSAS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northstar01"/>
          <p:cNvPicPr/>
          <p:nvPr/>
        </p:nvPicPr>
        <p:blipFill>
          <a:blip r:embed="rId1"/>
          <a:stretch/>
        </p:blipFill>
        <p:spPr>
          <a:xfrm>
            <a:off x="228600" y="909720"/>
            <a:ext cx="8915400" cy="59482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cky Break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tar Polaris is amazing close to NCP (now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“pointer stars” in the Big Dipper line up directly with Polaris!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Dipper is circumpolar constell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e it all night and all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aris also called Pole Star, North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04a-021a"/>
          <p:cNvPicPr/>
          <p:nvPr/>
        </p:nvPicPr>
        <p:blipFill>
          <a:blip r:embed="rId1"/>
          <a:stretch/>
        </p:blipFill>
        <p:spPr>
          <a:xfrm>
            <a:off x="838080" y="60948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8-03-13T05:31:25Z</dcterms:modified>
  <cp:revision>185</cp:revision>
  <dc:subject/>
  <dc:title>PowerPoint Presentation</dc:title>
</cp:coreProperties>
</file>